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15FB-C733-4E98-A4CE-31A50CB7002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Expression: Subjective or introspective message sharing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ings, or points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Folk Tale: Story made up to explain origins, values, or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cultural story developed and modified by groups of people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y: Fictional story incorporating plot, setting, characters, dénou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using a universal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drama: Nonfiction story with plot, setting, characters, and dénou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highly fact-based, using an abundance of primary source materials</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7B71-862F-4BDD-9C8A-31E5AD732A5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D2DD-B3AB-48ED-806D-93D515ED65D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kbook page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a family story about the value of a childhood experience, a high school reunion in which you reconnect with a long lost friend and finally understand something that happened in senior year that has always plagued you, a story about your life told from the point of view of an object...you name it. It can be any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point for overcoming a creative block is to begin with a small idea. It i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tendency to want to make a novel or screenplay out of a portion of ou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s, to think in terms of getting all the details. But it is exactly that kind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e that disables our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love, are inspired by, want to recognize, or find meaning in ou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other person or even pet, is deeply important to us. Perhaps the majority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es created in our workshops are about a relationship with a singular othe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of these stories tell us more about ourselves than the details of ou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ing and remembering people who have passed is an essential part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of grieving. While these stories are often the most difficult and painful to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are the most pow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or had been your relationship to this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would you describe this person (physical appearance, charact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s there an event/incident that best captures their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about them do/did you most enj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about them drives you craz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lesson did they give you that you feel i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f you had something to say to them, that they may have never heard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7894-791A-4BB7-BC57-9E2F8B5075C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story about any concept, unit or idea from any area of the curriculum, from math to social studies. Of particular interest to us here is combining the immediacy and power of story with reflective practice in the pursuit of content area understanding.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CDAF-2212-4790-993D-52F464EF80E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ary: Generally narrated, fair, and balanced piece. Multiple points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resented based on an abundant number of primary media sources to cre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understanding about complex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ement/Public Service Announcement: Short spots designed to sell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or actions to affect either commercial or noncommercial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Conclude: A very thorough, detailed description of a singl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minating in an evidence-based conclusion that is well arg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Conclude: Not only is the problem or topic described, but multipl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factors are analyzed for new meaning and thinking about the effects, leading t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Persuade: Similar to analyze/conclude, with the structure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designed to sway an audience to share the author’s position along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otional or intellectual appeal for a “call to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Contrast: Logical comparison of two or more products, ideas, or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ing the pros and cons of each before proposing a compelling reas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ing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Effect: Shows a logical, compelling relationship between a situation 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it has produced to influence the audience to adopt the same position a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2765-0EB4-41F1-9130-5220F2722B7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the story form in education is exciting. But it is also problematic. One of the hallmarks of a good story is that you don't really reflect on it, at least not while you are listening to it. A good story is considered "good" precisely because you become engrossed in it and give yourself over to it. This begs the question, "What is the role of critical thinking in the pedagogy of storytel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n Kay describes the tension between storing and critical analysis succinctly by comparing theater and political rallies. While they appear very similar in terms of activity and production values, they make two very different demands upon the viewer as learner: theater demands we suspend our disbelief, while political rallies demand we critically analyze everything we se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allenge as educators who want to use digital storytelling across the curriculum is to harness the tremendously persuasive power of the story form through a process that imbues it with reflection, problem solving and reasoned thinking. That is, we must use the story form as a vehicle for learning and critical thinking, while not relinquishing its ability to engage and inspire. As students blend storytelling and analysis, they will have the best of both worlds. And the more that students become producers of stories, rather than just consumers, the more powerful a learning tool storytelling will become. Digital storytelling offers great potential in this are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hink about "story vs. report" in "either-or" terms -- most media projects are some Every story is going to be a particular blend of story form and documentary or report, so it's more effective to think about media in terms of where it falls on a continuu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alyzing media, it's effective to have students identify where particular media pieces lie on the continuum. When planning student media projects, it can be helpful for teachers to identify a point on the continuum that they want students to aim for.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3E53-A5CC-4889-BF5E-EECE876D04F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1200" spc="-1" strike="noStrike">
                <a:solidFill>
                  <a:srgbClr val="000000"/>
                </a:solidFill>
                <a:latin typeface="Arial"/>
              </a:rPr>
              <a:t> As education, entertainment, art, technology and storytelling continue to merge, society will need the help of the Combining the story form and critical thinking is one of the most exciting and challenging frontiers in this merger, particularly in education and educational research. That frontier will be largely dominated by digital storytelling.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5A74-D0DE-4290-B530-BE19CCC4DE4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all stories are told to make a point. Most stories follow the patter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a desire, a need, or a problem that must be addressed by a central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re the central character, the story follows the action this desire leads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d then reveals realizations or insights that occurred as we experience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of our actions and their relationship to our original desire. By point of view,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rimarily addressing the issue of defining the specific realization you, a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are trying to communicate within your story. Because every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ervice this point, it becomes imperative to define this goal in order to direc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proces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gital story consists of a serie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mages combined with a nar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track to tell a story. Ken Bu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his technique to good eff ect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opular series of document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BS. Although short video cl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sometimes included, students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digital stories without acces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equipment.</a:t>
            </a: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BFB9-F4DB-4EFE-AFF4-B34E0F04677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2B4A-1B86-42C8-8D49-0BF1FFA5F16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making a point doesn’t necessarily keep people’s attention throughout a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rafted stories, from Shakespeare to Seinfeld, set up a tension from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holds you until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omance, will the girl get the guy? In an adventure, will the 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h the goal? In a crime or murder mystery, who d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trained from early on to recognize that different dramatic questions often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dictable answers. If the question is about how the girl gets the guy, our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is that either the guy, or someone the guy knows, doesn’t wan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to be gotten. As a result, manipulating expectations is precisely what enter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What if the girl thinks she wants one guy, but she really wants the guy who is tr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op her from getting the original guy? What if she decides to chuck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 and become a nun? Are we unhappy? Only if there was nothing to suggest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vents were consistent with her behavior will we be confused or dismaye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uthor will make you think the central dramatic question was "Will the girl 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y?" when it really was "Will the girl find happiness?" and we have learned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at she doesn’t define herself completely by her role as spousal partner. If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movies, you know the possibilities for manipulating the dramatic question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le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4B26-C321-405E-82B4-B6847C89405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through the degree of your emotional vulnerability in shaping the point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of the story, in regards to audience, is always importan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AE25-07DB-4B08-A9F2-86508C144F5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st way to improve upon a recording of your voice is to keep the writing t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several takes of the text. The nice thing about a digital sound file is tha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mix and match each of the recording takes to create the best-sounding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uggest you work at speaking slowly in a conversational sty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76FF-6AB0-495C-A587-8A1BF9F8310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e to believe that people now walk around with soundtracks runnin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heads. Those soundtracks set the mood of our day, change the way we perce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information streaming into our eyes, and establish a rhythm for our st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s if by listening to or imagining a specific slice of music, we are putting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o our own movie, a movie that puts our life into a clearer perspective, or at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tains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earlier and earlier ages, we are aware of the trick that music can play on our per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visual information. We are all familiar with how music in a film can stir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otional response very different from what the visual information suggests. Th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F0D0-6F80-47C9-A977-3C375596681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Jaws</a:t>
            </a:r>
            <a:r>
              <a:rPr b="0" lang="en-US" sz="1200" spc="-1" strike="noStrike">
                <a:solidFill>
                  <a:srgbClr val="000000"/>
                </a:solidFill>
                <a:latin typeface="Arial"/>
              </a:rPr>
              <a:t> theme can make </a:t>
            </a:r>
            <a:r>
              <a:rPr b="1" lang="en-US" sz="1200" spc="-1" strike="noStrike">
                <a:solidFill>
                  <a:srgbClr val="000000"/>
                </a:solidFill>
                <a:latin typeface="Arial"/>
              </a:rPr>
              <a:t>Bambi</a:t>
            </a:r>
            <a:r>
              <a:rPr b="0" lang="en-US" sz="1200" spc="-1" strike="noStrike">
                <a:solidFill>
                  <a:srgbClr val="000000"/>
                </a:solidFill>
                <a:latin typeface="Arial"/>
              </a:rPr>
              <a:t> appear evil... that's the power of music... use it wis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do a quick write following each video about what kind of movie they think they are watching, what they think the story line might be and how they feel toward the young man in the movie. You need to play each movie to get the full effect. They are only 30 seconds long. I suggest you play the movie without any sound at all before playing all three sequences with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D43D-4A56-4E1D-A3D1-1AA6536A8B1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1CE1-4563-4FBD-BDCB-3E9440B8469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give me, this is a long letter. I would have written you a short letter, but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n’t have the time." Shorter isn’t always easier for the mature writer.Despite our emphasis on story, text, and sound, digital media for many storyteller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ly a visual medium that integrates these other elements. As a visual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oncerned with composition and juxtaposition of visual elements in a si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and over time. Since our emphasis is in repurposing existing images and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nitial compositional considerations were already decided by how picture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s were framed and shot. Our concern here is with sequential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er and director do a good job, they will shoot just what is necessary to keep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visually rich while moving forward, with only the minimum of dialogue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scenes necessary to allow us to envision the larger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 is generally the biggest problem with telling a story. Most people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e that the story they have to tell can be effectively illustrated with a small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mages and video and a relatively short text. We purposely put limitation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images and video clips our students use. We also suggest that, if th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starting with a script, they create a storyboard with their material and look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ossible way to edit their words prior to beginning the production proc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ing is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any to be the true secret of successful storytelling. The rhythm of a story determ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what sustains an audience’s interest. A fast-paced movie with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edits and upbeat music can suggest urgency, action, nervousness, exas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excitement. Conversely, a slow pace will suggest contemplation, romanti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xation, or simple pleasures.</a:t>
            </a: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01F3-EBA7-40CD-86B0-3BD3D5C7143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A461-E716-4F81-96BA-1DB00A579AB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bed Scanners crop as much as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everything in one folder</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71C5-2E70-4B96-B7D5-7D88DAF3AFA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A4D8-BDEE-4126-A9BB-37DB3FC4C55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rucial for personal, academic and workplace success in the Digital Age and blend very well in a digital storytelling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ral and written storytelling, as well as storytelling using digital and art skills, are involved in the creation of digital stories, and how all these literacies and forms of storytelling can reinforce each other. Thi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3F55-9B65-46EC-B681-82DCF97D3F6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97B3-F4A6-47BE-B18C-CECBF22C379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C0D3-E6FF-48B1-A9B0-8FB8092A347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Because it is how storytelling began and has endured for millennia. It has a history rich in timeless skills, perspective and sense of audience. Good teaching is often a matter of good storytelling. communication. 2Because it provides a skill set that can be used alone, as well as transferred to the digital storytelling format. Whether you're no tech, low tech or high tech, it informs your digital storytelling practic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Because video material of people telling oral stories will become increasingly important in digital storytelling. Video material has largely been excluded due to expense and complexity, but this is changing rapidly as digital video gets less expensive and easier to use. Video will present opportunities as well as challenges. The current de facto format for digital storytelling consists of still images with voice-over narration. This format is a relatively flexible, powerful, reflective approach to story creation. As video enters the digital storytelling arena we need to make sure we don't lose these qualiti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Because more and more students will tell stories with media accompaniment. Delivering a PowerPoint presentation is a good case in point. The average audience now expects a blend of media and oral presentation. Therefore, let's spend some of our educational energy focusing on oral presentation to help them be successfu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E179-D13A-4397-B83A-E8DE925B670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hile writing may not be the final product of a digital story, it is the students must take to create it. </a:t>
            </a:r>
            <a:br>
              <a:rPr sz="1200"/>
            </a:br>
            <a:br>
              <a:rPr sz="1200"/>
            </a:br>
            <a:r>
              <a:rPr b="0" lang="en-US" sz="1200" spc="-1" strike="noStrike">
                <a:solidFill>
                  <a:srgbClr val="000000"/>
                </a:solidFill>
                <a:latin typeface="Arial"/>
              </a:rPr>
              <a:t>Writing is the primary tool used to plan and create a digital story. The saying "if it ain't on the page then it ain't on the stage" is just as true for digital storytelling as it is for theater and movies. In fact, media production is a great way to engage kids in writing in an authentic way. Anecdotally, I have heard from teachers that students who don't want to write school reports are happy to write video plans and scripts because it is not perceived as "school work." </a:t>
            </a:r>
            <a:r>
              <a:rPr b="1" lang="en-US" sz="1200" spc="-1" strike="noStrike">
                <a:solidFill>
                  <a:srgbClr val="000000"/>
                </a:solidFill>
                <a:latin typeface="Arial"/>
              </a:rPr>
              <a:t>Bottom line:</a:t>
            </a:r>
            <a:r>
              <a:rPr b="0" lang="en-US" sz="1200" spc="-1" strike="noStrike">
                <a:solidFill>
                  <a:srgbClr val="000000"/>
                </a:solidFill>
                <a:latin typeface="Arial"/>
              </a:rPr>
              <a:t> No matter how sophisticated our technology becomes, the future of digital storytelling will involve writing and conventional forms of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writing skills that students employ in the process of creating their digital stories embrace many aspects of writing that are valued in school and the workplace. </a:t>
            </a:r>
            <a:br>
              <a:rPr sz="1200"/>
            </a:br>
            <a:br>
              <a:rPr sz="1200"/>
            </a:br>
            <a:r>
              <a:rPr b="0" lang="en-US" sz="1200" spc="-1" strike="noStrike">
                <a:solidFill>
                  <a:srgbClr val="000000"/>
                </a:solidFill>
                <a:latin typeface="Arial"/>
              </a:rPr>
              <a:t>Digital stories compel students to synthesize creative writing and personal reflection with clarity and organization. In the case of academic digital stories, writing is used to plan, script and create a story that demonstrates content area understand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6787-B650-4CD8-82FF-315E5BE98E6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ecause in a world in which students are required to create websites, digital stories and other forms of new media as part of their school work,. Thanks to our struggle to use, the language of art is taking center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ecause digital stories are essentially multimedia art projects, shaped by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ecause no matter what technologies await us in the future, we will try to tell stories with them, and to do so we will need t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5FB5-9658-46F9-9AC8-B164BF87C4B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oal in digital literacy is to use technology "effectively, creatively and wisely." That is, we want our students to master technological skills, to use technology as an imagination amplifier, and to see and evaluate technology and its impacts within the larger context of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dom we want our students to cultivate is both theoretical and practical. We want them to see and understand the persuasive power of technology and media, especially the power that flies beneath most people's radars. And there is no better way to "pull back the curtain and expose the wizard of technology OZ" than to have students create their own media. This is typically the domain of "media literac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9228-F7C8-4F16-AD5D-6B38C348176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literacy can be defined simply as "the ability to recognize, evaluate and apply the means of media persuasion." Digital storytelling provides rich "teachable moments" in regards to helping students become media literate. I recommend you make media literacy an explicit goal of your digital storytelling and new media projects. In my opin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7D31-E2DF-4AD0-AAFA-4355F1F3B2E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the story should b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eground and th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has the capac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fy the writer’s voice in a well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In particular, dig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telling can be used to en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ggling readers and writers w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not yet experienced the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personal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ckground.I had a revelation many years ago in a digital storytelling class. As the technology became more powerful, some of my students' stories became weaker. What I discovered was that some of my students were focusing on the power of the technology rather than the power of their stories - "gratuitous technologizing," I called it. That compelled me to hire an oral storyteller to work with my digital storytelling students before we added the technology to the storytelling process. The results in my classroom from using oral storytelling as a form of pre-production was transformational. Everyone's work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this workshop we learn the fundamentals of storytelling first, then focus on how to use technology to support the stories you want to tell in personal, engaging ways. Having a grasp of traditional storytelling will not only enrich your digital storytelling, but it will also allow you to use storytelling in your classroom whether your classroom is high tech, low tech or no te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5DC49-4532-4C67-8994-77B1C9B85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DF512-E0D8-4A9F-AEC4-1967725BC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10257-BBF3-4E2B-8276-92226AD0E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2B155-9792-43FC-BCF8-3BF440DD5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BBF3D-536C-4849-9695-862FAA750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E888F-C744-432D-AA73-BC130F0F0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0FF6F-B7A5-4C72-8465-94FA192F5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D598A-7B1D-4DD0-B4AA-D35AB2CC1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8A195-F00D-451F-B8B2-1D1F15CC1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ACD59-2260-41A0-93FC-46124B07A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73EC4-75CB-4594-9A85-4A846B990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C47D8-E361-440E-8FBE-D4A3386B6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3271D-F39C-443A-B528-91A5AFF93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960F9-BB9B-4B5E-AA88-69A2ABA9F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E67E9-C121-4563-A0B0-36106E847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AA8BB-7FA8-49FF-A687-A7867248F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706E8-B64B-44E1-960A-1ABD4C6FB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E4B08-67D9-4193-A9EF-FB0F79E89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175BC-D18D-4979-9D4D-4C24E0DFB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91A16-287F-4F71-8666-A342CE82D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ED542-38BF-424C-9C07-5C559DCFE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44B9A-688E-4E7E-B8E1-8D0689836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A9B6A-7C8B-4F7B-A07C-8B94143BC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D59E7-1DA7-465E-A2F4-3B7257C2F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F77C-C353-4018-8C5B-54A6F910F168}"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D2A7-DA47-4DF3-B1D0-9B02BBA5362D}"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Q7kKJNYIdv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digitalstorytelling.coe.uh.edu/" TargetMode="External"/><Relationship Id="rId2" Type="http://schemas.openxmlformats.org/officeDocument/2006/relationships/hyperlink" Target="http://www.coe.uh.edu/digital-storytelling/mymama.htm" TargetMode="External"/><Relationship Id="rId3" Type="http://schemas.openxmlformats.org/officeDocument/2006/relationships/hyperlink" Target="http://www.coe.uh.edu/digital-storytelling/almostparadise.htm" TargetMode="External"/><Relationship Id="rId4" Type="http://schemas.openxmlformats.org/officeDocument/2006/relationships/hyperlink" Target="http://www.digitales.us/story_details.php?story_id=71" TargetMode="External"/><Relationship Id="rId5" Type="http://schemas.openxmlformats.org/officeDocument/2006/relationships/hyperlink" Target="http://www.jasonohler.com/projects/edResearch.cfm" TargetMode="External"/><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real.scps.k12.fl.us/zootraining.ht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digitales.us/story_details.php?story_id=67"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jasonohler.com/video/moviesequences/SequenceOne.mov"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gital Storytelling</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Dyan’s Couch</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tub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gital video is becoming the media of choic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r students are comfortable with it.  Remember, they are natives, we are immigrant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8"/>
                                        </p:tgtEl>
                                        <p:attrNameLst>
                                          <p:attrName>style.visibility</p:attrName>
                                        </p:attrNameLst>
                                      </p:cBhvr>
                                      <p:to>
                                        <p:strVal val="visible"/>
                                      </p:to>
                                    </p:set>
                                    <p:animEffect filter="fade" transition="in">
                                      <p:cBhvr additive="repl">
                                        <p:cTn id="7" dur="2000"/>
                                        <p:tgtEl>
                                          <p:spTgt spid="1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2" dur="2000"/>
                                        <p:tgtEl>
                                          <p:spTgt spid="15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7" dur="2000"/>
                                        <p:tgtEl>
                                          <p:spTgt spid="15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22" dur="2000"/>
                                        <p:tgtEl>
                                          <p:spTgt spid="159">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59">
                                            <p:txEl>
                                              <p:pRg st="4" end="4"/>
                                            </p:txEl>
                                          </p:spTgt>
                                        </p:tgtEl>
                                        <p:attrNameLst>
                                          <p:attrName>style.visibility</p:attrName>
                                        </p:attrNameLst>
                                      </p:cBhvr>
                                      <p:to>
                                        <p:strVal val="visible"/>
                                      </p:to>
                                    </p:set>
                                    <p:animEffect filter="fade" transition="in">
                                      <p:cBhvr additive="repl">
                                        <p:cTn id="27" dur="2000"/>
                                        <p:tgtEl>
                                          <p:spTgt spid="15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59">
                                            <p:txEl>
                                              <p:pRg st="5" end="5"/>
                                            </p:txEl>
                                          </p:spTgt>
                                        </p:tgtEl>
                                        <p:attrNameLst>
                                          <p:attrName>style.visibility</p:attrName>
                                        </p:attrNameLst>
                                      </p:cBhvr>
                                      <p:to>
                                        <p:strVal val="visible"/>
                                      </p:to>
                                    </p:set>
                                    <p:animEffect filter="fade" transition="in">
                                      <p:cBhvr additive="repl">
                                        <p:cTn id="32" dur="20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yth/Folk Ta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rt Sto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cudram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onal Expression</a:t>
            </a:r>
            <a:endParaRPr b="0" lang="en-US" sz="3200" spc="-1" strike="noStrike">
              <a:solidFill>
                <a:srgbClr val="000000"/>
              </a:solidFill>
              <a:latin typeface="Comic Sans MS"/>
            </a:endParaRPr>
          </a:p>
        </p:txBody>
      </p:sp>
      <p:sp>
        <p:nvSpPr>
          <p:cNvPr id="1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ypes of Communication-Narrative</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45684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personal Expression</a:t>
            </a:r>
            <a:br>
              <a:rPr sz="4000"/>
            </a:br>
            <a:r>
              <a:rPr b="1" lang="en-US" sz="4000" spc="-1" strike="noStrike">
                <a:solidFill>
                  <a:srgbClr val="000000"/>
                </a:solidFill>
                <a:latin typeface="Comic Sans MS"/>
              </a:rPr>
              <a:t>involves a personal change or realization</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9" name="PlaceHolder 2"/>
          <p:cNvSpPr>
            <a:spLocks noGrp="1"/>
          </p:cNvSpPr>
          <p:nvPr>
            <p:ph/>
          </p:nvPr>
        </p:nvSpPr>
        <p:spPr>
          <a:xfrm>
            <a:off x="762120" y="2133720"/>
            <a:ext cx="7696080" cy="36576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sonal Reflection Storie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haracter Stories</a:t>
            </a:r>
            <a:br>
              <a:rPr sz="1400"/>
            </a:br>
            <a:r>
              <a:rPr b="0" lang="en-US" sz="1400" spc="-1" strike="noStrike">
                <a:solidFill>
                  <a:srgbClr val="000000"/>
                </a:solidFill>
                <a:latin typeface="Comic Sans MS"/>
              </a:rPr>
              <a:t>Memorial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vents in our lives-Adventures/Accomplishment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aces in our lives (Germany)</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Our job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ecovery Storie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ove Storie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iscovery</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ample</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1"/>
              </a:rPr>
              <a:t>http://digitalstorytelling.coe.uh.edu/personal_reflection.htmlu</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2"/>
              </a:rPr>
              <a:t>My Mama</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3"/>
              </a:rPr>
              <a:t>Almost Paradise</a:t>
            </a:r>
            <a:endParaRPr b="0" lang="en-US" sz="1400" spc="-1" strike="noStrike">
              <a:solidFill>
                <a:srgbClr val="000000"/>
              </a:solidFill>
              <a:latin typeface="Comic Sans MS"/>
            </a:endParaRPr>
          </a:p>
          <a:p>
            <a:pPr marL="335880" indent="-3358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4"/>
              </a:rPr>
              <a:t>A Dog’s Tale</a:t>
            </a:r>
            <a:endParaRPr b="0" lang="en-US" sz="1200" spc="-1" strike="noStrike">
              <a:solidFill>
                <a:srgbClr val="000000"/>
              </a:solidFill>
              <a:latin typeface="Comic Sans MS"/>
            </a:endParaRPr>
          </a:p>
          <a:p>
            <a:pPr marL="335880" indent="-3358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5"/>
              </a:rPr>
              <a:t>Fox Finds a Friend</a:t>
            </a:r>
            <a:endParaRPr b="0" lang="en-US" sz="1200" spc="-1" strike="noStrike">
              <a:solidFill>
                <a:srgbClr val="000000"/>
              </a:solidFill>
              <a:latin typeface="Comic Sans MS"/>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175212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ve/Expository</a:t>
            </a:r>
            <a:br>
              <a:rPr sz="4000"/>
            </a:br>
            <a:r>
              <a:rPr b="1" lang="en-US" sz="5400" spc="-1" strike="noStrike">
                <a:solidFill>
                  <a:srgbClr val="000000"/>
                </a:solidFill>
                <a:latin typeface="Comic Sans MS"/>
              </a:rPr>
              <a:t> </a:t>
            </a:r>
            <a:r>
              <a:rPr b="1" lang="en-US" sz="2400" spc="-1" strike="noStrike">
                <a:solidFill>
                  <a:srgbClr val="000000"/>
                </a:solidFill>
                <a:latin typeface="Comic Sans MS"/>
              </a:rPr>
              <a:t>An academic or "unit of instruction" story</a:t>
            </a:r>
            <a:r>
              <a:rPr b="0" lang="en-US" sz="2400" spc="-1" strike="noStrike">
                <a:solidFill>
                  <a:srgbClr val="000000"/>
                </a:solidFill>
                <a:latin typeface="Comic Sans MS"/>
              </a:rPr>
              <a:t> </a:t>
            </a:r>
            <a:br>
              <a:rPr sz="5400"/>
            </a:br>
            <a:br>
              <a:rPr sz="5400"/>
            </a:br>
            <a:endParaRPr b="0" lang="en-US" sz="24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anchor="t">
            <a:normAutofit fontScale="82000"/>
          </a:bodyPr>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mary Report</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ook Report</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To Directions</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ography</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ample -</a:t>
            </a:r>
            <a:r>
              <a:rPr b="0" lang="en-US" sz="3200" spc="-1" strike="noStrike" u="sng">
                <a:solidFill>
                  <a:srgbClr val="00b200"/>
                </a:solidFill>
                <a:uFillTx/>
                <a:latin typeface="Comic Sans MS"/>
                <a:hlinkClick r:id="rId1"/>
              </a:rPr>
              <a:t>Science</a:t>
            </a:r>
            <a:endParaRPr b="0" lang="en-US" sz="3200" spc="-1" strike="noStrike">
              <a:solidFill>
                <a:srgbClr val="000000"/>
              </a:solidFill>
              <a:latin typeface="Comic Sans MS"/>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Plight of the Cheetah</a:t>
            </a:r>
            <a:endParaRPr b="0" lang="en-US" sz="2000" spc="-1" strike="noStrike">
              <a:solidFill>
                <a:srgbClr val="000000"/>
              </a:solidFill>
              <a:latin typeface="Comic Sans MS"/>
            </a:endParaRPr>
          </a:p>
          <a:p>
            <a:pPr marL="281160" indent="-2811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Queen of the Riv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13712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can you as a teacher use storytelling and digital media in content areas in your classroom? </a:t>
            </a:r>
            <a:endParaRPr b="0" lang="en-US" sz="4000" spc="-1" strike="noStrike">
              <a:solidFill>
                <a:srgbClr val="000000"/>
              </a:solidFill>
              <a:latin typeface="Comic Sans MS"/>
            </a:endParaRPr>
          </a:p>
        </p:txBody>
      </p:sp>
      <p:sp>
        <p:nvSpPr>
          <p:cNvPr id="183" name="Text Box 3"/>
          <p:cNvSpPr/>
          <p:nvPr/>
        </p:nvSpPr>
        <p:spPr>
          <a:xfrm>
            <a:off x="1219320" y="3352680"/>
            <a:ext cx="792468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ports</a:t>
            </a:r>
            <a:endParaRPr b="0" lang="en-US" sz="2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ok reports</a:t>
            </a:r>
            <a:endParaRPr b="0" lang="en-US" sz="2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to directions</a:t>
            </a:r>
            <a:endParaRPr b="0" lang="en-US" sz="2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graphi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civilization.wmv"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303019"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184"/>
                    </p:tgtEl>
                  </p:cond>
                </p:stCondLst>
                <p:childTnLst>
                  <p:par>
                    <p:cTn id="40" fill="hold">
                      <p:stCondLst>
                        <p:cond evt="onClick">
                          <p:tgtEl>
                            <p:spTgt spid="184"/>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
          <p:cNvSpPr txBox="1"/>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87" name="picasso.wmv" descr=""/>
          <p:cNvPicPr/>
          <p:nvPr/>
        </p:nvPicPr>
        <p:blipFill>
          <a:blip r:embed="rId1"/>
          <a:stretch/>
        </p:blipFill>
        <p:spPr>
          <a:xfrm>
            <a:off x="838080" y="4572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mediacall" presetID="1">
                                  <p:stCondLst>
                                    <p:cond delay="0"/>
                                  </p:stCondLst>
                                  <p:childTnLst>
                                    <p:cmd type="call" cmd="playFrom(0.0)">
                                      <p:cBhvr>
                                        <p:cTn id="49" dur="375869"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187"/>
                    </p:tgtEl>
                  </p:cond>
                </p:stCondLst>
                <p:childTnLst>
                  <p:par>
                    <p:cTn id="51" fill="hold">
                      <p:stCondLst>
                        <p:cond evt="onClick">
                          <p:tgtEl>
                            <p:spTgt spid="187"/>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ersuasion</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vertisements </a:t>
            </a:r>
            <a:endParaRPr b="0" lang="en-US" sz="3200" spc="-1" strike="noStrike">
              <a:solidFill>
                <a:srgbClr val="000000"/>
              </a:solidFill>
              <a:latin typeface="Comic Sans MS"/>
            </a:endParaRPr>
          </a:p>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cribe/conclude</a:t>
            </a:r>
            <a:endParaRPr b="0" lang="en-US" sz="3200" spc="-1" strike="noStrike">
              <a:solidFill>
                <a:srgbClr val="000000"/>
              </a:solidFill>
              <a:latin typeface="Comic Sans MS"/>
            </a:endParaRPr>
          </a:p>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conclude</a:t>
            </a:r>
            <a:endParaRPr b="0" lang="en-US" sz="3200" spc="-1" strike="noStrike">
              <a:solidFill>
                <a:srgbClr val="000000"/>
              </a:solidFill>
              <a:latin typeface="Comic Sans MS"/>
            </a:endParaRPr>
          </a:p>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persuade</a:t>
            </a:r>
            <a:endParaRPr b="0" lang="en-US" sz="3200" spc="-1" strike="noStrike">
              <a:solidFill>
                <a:srgbClr val="000000"/>
              </a:solidFill>
              <a:latin typeface="Comic Sans MS"/>
            </a:endParaRPr>
          </a:p>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are/contrast</a:t>
            </a:r>
            <a:endParaRPr b="0" lang="en-US" sz="3200" spc="-1" strike="noStrike">
              <a:solidFill>
                <a:srgbClr val="000000"/>
              </a:solidFill>
              <a:latin typeface="Comic Sans MS"/>
            </a:endParaRPr>
          </a:p>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use/effect </a:t>
            </a:r>
            <a:br>
              <a:rPr sz="3200"/>
            </a:br>
            <a:r>
              <a:rPr b="0" lang="en-US" sz="3200" spc="-1" strike="noStrike" u="sng">
                <a:solidFill>
                  <a:srgbClr val="00b200"/>
                </a:solidFill>
                <a:uFillTx/>
                <a:latin typeface="Comic Sans MS"/>
                <a:hlinkClick r:id="rId1"/>
              </a:rPr>
              <a:t>Road Taken for Peace</a:t>
            </a:r>
            <a:endParaRPr b="0" lang="en-US" sz="32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6854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ories vs. reports - engagement vs. critical thinking </a:t>
            </a:r>
            <a:endParaRPr b="0" lang="en-US" sz="4000" spc="-1" strike="noStrike">
              <a:solidFill>
                <a:srgbClr val="000000"/>
              </a:solidFill>
              <a:latin typeface="Comic Sans MS"/>
            </a:endParaRPr>
          </a:p>
        </p:txBody>
      </p:sp>
      <p:sp>
        <p:nvSpPr>
          <p:cNvPr id="191" name="PlaceHolder 2"/>
          <p:cNvSpPr>
            <a:spLocks noGrp="1"/>
          </p:cNvSpPr>
          <p:nvPr>
            <p:ph/>
          </p:nvPr>
        </p:nvSpPr>
        <p:spPr>
          <a:xfrm>
            <a:off x="685800" y="25146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pirational stories + critical think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uasive power of the story form</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lection, problem solving and reasoned thinking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bination of story form and analytical repo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12189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at frontier will be largely dominated by digital storytelling. </a:t>
            </a:r>
            <a:br>
              <a:rPr sz="4000"/>
            </a:br>
            <a:endParaRPr b="0" lang="en-US" sz="4000" spc="-1" strike="noStrike">
              <a:solidFill>
                <a:srgbClr val="000000"/>
              </a:solidFill>
              <a:latin typeface="Comic Sans MS"/>
            </a:endParaRPr>
          </a:p>
        </p:txBody>
      </p:sp>
      <p:sp>
        <p:nvSpPr>
          <p:cNvPr id="193" name="PlaceHolder 2"/>
          <p:cNvSpPr>
            <a:spLocks noGrp="1"/>
          </p:cNvSpPr>
          <p:nvPr>
            <p:ph/>
          </p:nvPr>
        </p:nvSpPr>
        <p:spPr>
          <a:xfrm>
            <a:off x="762120" y="2971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eachers are more important than ev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 Elements</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A Point) of view</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ories are told to make a poi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stories are person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first-pers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person voice is authoritative, seemingly neutra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 of Digital Storytelling</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mbining the long standing art of telling stories with any of a variety of available multimedia tools, including graphics, audio, video animation, and Web publish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combines </a:t>
            </a:r>
            <a:r>
              <a:rPr b="1" lang="en-US" sz="3200" spc="-1" strike="noStrike">
                <a:solidFill>
                  <a:srgbClr val="000000"/>
                </a:solidFill>
                <a:latin typeface="Comic Sans MS"/>
              </a:rPr>
              <a:t>Digital, Art, Oral and Written literacie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a:t>
            </a:r>
            <a:r>
              <a:rPr b="1" lang="en-US" sz="3200" spc="-1" strike="noStrike">
                <a:solidFill>
                  <a:srgbClr val="000000"/>
                </a:solidFill>
                <a:latin typeface="Comic Sans MS"/>
              </a:rPr>
              <a:t>Dramatic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just make a poin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 up a question in the beginni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t>
            </a:r>
            <a:r>
              <a:rPr b="1" lang="en-US" sz="3200" spc="-1" strike="noStrike">
                <a:solidFill>
                  <a:srgbClr val="000000"/>
                </a:solidFill>
                <a:latin typeface="Comic Sans MS"/>
              </a:rPr>
              <a:t>Emotional Cont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quires plain old-fashioned common sense and matur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oring emotional material is a personal decision. </a:t>
            </a:r>
            <a:endParaRPr b="0" lang="en-US" sz="32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1" lang="en-US" sz="3200" spc="-1" strike="noStrike">
                <a:solidFill>
                  <a:srgbClr val="000000"/>
                </a:solidFill>
                <a:latin typeface="Comic Sans MS"/>
              </a:rPr>
              <a:t>Gift of Voi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r voice is a great gif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voice can show strength and weaknes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not to read, but tal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3-minute script could take an hour or a week to record,</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456840"/>
            <a:ext cx="8229600" cy="5288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1" lang="en-US" sz="3200" spc="-1" strike="noStrike">
                <a:solidFill>
                  <a:srgbClr val="000000"/>
                </a:solidFill>
                <a:latin typeface="Comic Sans MS"/>
              </a:rPr>
              <a:t>The Power of the Soundtr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od gener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irs emo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 careful with lyrical 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rumental is bes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pyrigh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wer of music in your digital stor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ttom line:</a:t>
            </a:r>
            <a:r>
              <a:rPr b="0" lang="en-US" sz="2800" spc="-1" strike="noStrike">
                <a:solidFill>
                  <a:srgbClr val="000000"/>
                </a:solidFill>
                <a:latin typeface="Comic Sans MS"/>
              </a:rPr>
              <a:t> Music manipulates and can overtake a story if over used or over played. Make sure your music supplements your story, and not the other way around. When it is the other way around, you have a music video.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ctivity</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Movie Sequence #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2</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3</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a:t>
            </a:r>
            <a:r>
              <a:rPr b="1" lang="en-US" sz="3200" spc="-1" strike="noStrike">
                <a:solidFill>
                  <a:srgbClr val="000000"/>
                </a:solidFill>
                <a:latin typeface="Comic Sans MS"/>
              </a:rPr>
              <a:t>Be economic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go overboard on material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ectively illustrated with a small number of images and vide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33520" y="99072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a:t>
            </a:r>
            <a:r>
              <a:rPr b="1" lang="en-US" sz="3200" spc="-1" strike="noStrike">
                <a:solidFill>
                  <a:srgbClr val="000000"/>
                </a:solidFill>
                <a:latin typeface="Comic Sans MS"/>
              </a:rPr>
              <a:t>Pac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ve along generally at an even pace,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rts and stops, pauses, and quickly spurted phras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854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ols</a:t>
            </a:r>
            <a:endParaRPr b="0" lang="en-US" sz="4400" spc="-1" strike="noStrike">
              <a:solidFill>
                <a:srgbClr val="000000"/>
              </a:solidFill>
              <a:latin typeface="Comic Sans MS"/>
            </a:endParaRPr>
          </a:p>
        </p:txBody>
      </p:sp>
      <p:sp>
        <p:nvSpPr>
          <p:cNvPr id="20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ftwa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deo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oi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0984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mages</a:t>
            </a:r>
            <a:endParaRPr b="0" lang="en-US" sz="4400" spc="-1" strike="noStrike">
              <a:solidFill>
                <a:srgbClr val="000000"/>
              </a:solidFill>
              <a:latin typeface="Comic Sans MS"/>
            </a:endParaRPr>
          </a:p>
        </p:txBody>
      </p:sp>
      <p:sp>
        <p:nvSpPr>
          <p:cNvPr id="209" name=""/>
          <p:cNvSpPr txBox="1"/>
          <p:nvPr/>
        </p:nvSpPr>
        <p:spPr>
          <a:xfrm>
            <a:off x="685800" y="1066680"/>
            <a:ext cx="7696080" cy="4267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ixel dimensions of width and height should</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d up to at least 1000 pixel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flickr.com/</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memory.loc.gov/ammem/index.html</a:t>
            </a:r>
            <a:endParaRPr b="0" lang="en-US" sz="2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digitalgallery.nypl.org/nypldigital/index.cfm</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ideas.wisconsin.edu/imageideas.cfm</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search.creativecommons.or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digitalhistory.uh.edu/</a:t>
            </a:r>
            <a:endParaRPr b="0" lang="en-US" sz="2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anner- 300 dpi(dots per inch)</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mer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gital, Art, Oral and Written literacies</a:t>
            </a:r>
            <a:endParaRPr b="0" lang="en-US" sz="40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literacies rely on one anot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s literacy and expression in all area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ftware</a:t>
            </a:r>
            <a:br>
              <a:rPr sz="4400"/>
            </a:br>
            <a:endParaRPr b="0" lang="en-US" sz="4400" spc="-1" strike="noStrike">
              <a:solidFill>
                <a:srgbClr val="000000"/>
              </a:solidFill>
              <a:latin typeface="Comic Sans MS"/>
            </a:endParaRPr>
          </a:p>
        </p:txBody>
      </p:sp>
      <p:sp>
        <p:nvSpPr>
          <p:cNvPr id="211" name=""/>
          <p:cNvSpPr txBox="1"/>
          <p:nvPr/>
        </p:nvSpPr>
        <p:spPr>
          <a:xfrm>
            <a:off x="685440" y="1828800"/>
            <a:ext cx="6553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hoto Stor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obe Premier Eleme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ovie Mak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iMovi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dobe PhotoShop Elemen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deo </a:t>
            </a:r>
            <a:br>
              <a:rPr sz="4400"/>
            </a:br>
            <a:endParaRPr b="0" lang="en-US" sz="4400" spc="-1" strike="noStrike">
              <a:solidFill>
                <a:srgbClr val="000000"/>
              </a:solidFill>
              <a:latin typeface="Comic Sans MS"/>
            </a:endParaRPr>
          </a:p>
        </p:txBody>
      </p:sp>
      <p:sp>
        <p:nvSpPr>
          <p:cNvPr id="213"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mera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tub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search.creativecommons.or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digitalhistory.uh.ed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amzar.co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covery Streaming</a:t>
            </a:r>
            <a:endParaRPr b="0" lang="en-US" sz="3200" spc="-1" strike="noStrike">
              <a:solidFill>
                <a:srgbClr val="000000"/>
              </a:solidFill>
              <a:latin typeface="Comic Sans MS"/>
            </a:endParaRPr>
          </a:p>
        </p:txBody>
      </p:sp>
      <p:sp>
        <p:nvSpPr>
          <p:cNvPr id="214" name="Rectangle 4"/>
          <p:cNvSpPr/>
          <p:nvPr/>
        </p:nvSpPr>
        <p:spPr>
          <a:xfrm>
            <a:off x="2438280" y="5638680"/>
            <a:ext cx="518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ght click to save (never htm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usic</a:t>
            </a:r>
            <a:endParaRPr b="0" lang="en-US" sz="4400" spc="-1" strike="noStrike">
              <a:solidFill>
                <a:srgbClr val="000000"/>
              </a:solidFill>
              <a:latin typeface="Comic Sans MS"/>
            </a:endParaRPr>
          </a:p>
        </p:txBody>
      </p:sp>
      <p:sp>
        <p:nvSpPr>
          <p:cNvPr id="216"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soundzabound.co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search.creativecommons.or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Rectangle 3"/>
          <p:cNvSpPr/>
          <p:nvPr/>
        </p:nvSpPr>
        <p:spPr>
          <a:xfrm>
            <a:off x="7277040" y="1981080"/>
            <a:ext cx="16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uwatosasd</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oice</a:t>
            </a:r>
            <a:endParaRPr b="0" lang="en-US" sz="4400" spc="-1" strike="noStrike">
              <a:solidFill>
                <a:srgbClr val="000000"/>
              </a:solidFill>
              <a:latin typeface="Comic Sans MS"/>
            </a:endParaRPr>
          </a:p>
        </p:txBody>
      </p:sp>
      <p:sp>
        <p:nvSpPr>
          <p:cNvPr id="219"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americanrhetoric.co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dac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the built in mic of the software</a:t>
            </a:r>
            <a:endParaRPr b="0" lang="en-US" sz="3200" spc="-1" strike="noStrike">
              <a:solidFill>
                <a:srgbClr val="000000"/>
              </a:solidFill>
              <a:latin typeface="Comic Sans MS"/>
            </a:endParaRPr>
          </a:p>
        </p:txBody>
      </p:sp>
      <p:sp>
        <p:nvSpPr>
          <p:cNvPr id="220" name="Rectangle 3"/>
          <p:cNvSpPr/>
          <p:nvPr/>
        </p:nvSpPr>
        <p:spPr>
          <a:xfrm>
            <a:off x="2558880" y="26668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ght click to save (never htm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teachers?</a:t>
            </a: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eal to the diverse learning styles of the students by using Digital Storytelling as a presentation media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te interest, attention and motivation for the "digital generation" kids in our classrooms.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italize on the creative talents of your own students as they begin to research and tell stories of their own.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students?</a:t>
            </a: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 to use the Internet to research rich, deep content while analyzing and synthesizing a wide range of content.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 communications skills by learning to ask questions, express opinions, construct narratives and write for an audience.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computer skills using software that combines a variety of multimedia  including: text, still images, audio and video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tting Started</a:t>
            </a:r>
            <a:endParaRPr b="0" lang="en-US" sz="4400" spc="-1" strike="noStrike">
              <a:solidFill>
                <a:srgbClr val="000000"/>
              </a:solidFill>
              <a:latin typeface="Comic Sans MS"/>
            </a:endParaRPr>
          </a:p>
        </p:txBody>
      </p:sp>
      <p:sp>
        <p:nvSpPr>
          <p:cNvPr id="226"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eed to be a digital storytell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ware</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ware</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camera</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ice record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nn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phone USB</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camer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oral storytelling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matter how high tech we become, telling stories to each other orally will endure as one of our primary and most powerful forms of communicatio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will always be an important skill to have in the workplace, in our communities and in our schools.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writing important in digital storytelling?</a:t>
            </a:r>
            <a:endParaRPr b="0" lang="en-US" sz="40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athwa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art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art is becoming the next literacy, or 4th 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Must teach multimedia effective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Need understand design - the grammar of a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digital literacy importan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igital literacy</a:t>
            </a:r>
            <a:r>
              <a:rPr b="0" lang="en-US" sz="3200" spc="-1" strike="noStrike">
                <a:solidFill>
                  <a:srgbClr val="000000"/>
                </a:solidFill>
                <a:latin typeface="Comic Sans MS"/>
              </a:rPr>
              <a:t> = using technology effectively, creatively and wisely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technology as an imagination amplifier</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edia literac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gnizing, evaluating and applying the methods of media persuasion.</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cannot understand how media persuades until they become media persuaders themselve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fferent kinds of stories and storytelling </a:t>
            </a:r>
            <a:endParaRPr b="0" lang="en-US" sz="40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Committing a bad story to digital media, is like giving a bad guitar player a bigger amplifier”  Jason Oh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2:01:13Z</dcterms:created>
  <dc:creator>Wauwatosa School District</dc:creator>
  <dc:description/>
  <dc:language>en-US</dc:language>
  <cp:lastModifiedBy>Wauwatosa School District</cp:lastModifiedBy>
  <dcterms:modified xsi:type="dcterms:W3CDTF">2010-01-18T17:50:55Z</dcterms:modified>
  <cp:revision>10</cp:revision>
  <dc:subject/>
  <dc:title>Digital Storytelling</dc:title>
</cp:coreProperties>
</file>